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1E7-00B2-4F16-A04D-20F1743A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00F-EF7C-47CF-ADA8-7C496BED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C2D-E017-42AB-821C-71522D21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7A0-5AE0-4F20-8409-1DBC8194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71E-05F6-4F9C-A1FD-A3E7319F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343-9B07-4A6E-B1DF-354759C9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E20-68FF-4775-8892-BCEFADBE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396-71B3-4806-AD09-CB911727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37D-947B-42B1-AAB5-EC53F9AA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E7F-5AD9-48EE-97DD-2D851892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1F0-D43A-4036-A58A-D79C0DA1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863-77EA-44A7-ACC9-FE367B32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6640-FC18-4401-8EEF-39075B9573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77C7-0FAC-4553-AE48-14B7ADB37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BF97-4E67-46B1-9DD9-ED1CF0D89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Imple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Brooks, R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ia.brooks2@cms.hhs.g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Technical Ad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and Ambulatory Policy Group, CMM,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F88-D8D9-43C3-AE6F-BB2CD35AE0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versions of ICD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CM (diagno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2m_2009_ICD_10_CM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PCS (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1m_2009_ICD10PC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CFB-66AC-43A4-B166-9BB0CD8E1C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E80B-FC56-4AFD-B664-8D44D4BE6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Diagnoses – used by all types of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CM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Procedures – used only by inpatient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Procedural Terminology (CPT) &amp; HCPCS– used for all ambulatory and physician procedur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eing replaced by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F9F-2450-4DE9-BE1B-84EA7728C12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CEB8-EA4D-42EE-92E9-C4F63F147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is Outd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years old – technology has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ategories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scriptive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6B5-6038-4D65-81EB-F7A46702990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2ACE-5151-4A3C-B575-B8BF071A6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Using ICD-10 For Reimbursement or Case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 (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dic countries (Denmark, Finland, Iceland, Norway, Sweden) (1994 –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(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 (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A93-A210-4DC0-A311-1B8CC5A57FC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4C30-3A3F-4F3C-8BE2-AA56846C2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5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1 – 17: all character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l chapters: first digit is alpha (E or V), remainder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6  Chronic airway obstruction not elsewhere classified (N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1.9  Unspecified pleural e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02.61  Hepatitis B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AE8-FC4F-469A-AE0B-8E218303227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705B-D47D-4E28-BD75-11E92D6C2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has 3 –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1 is alpha (A – Z, not case sen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2 is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3 is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s 4 – 7 are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6  Ya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9.20  Lyme disease, unspec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9A.311  Physical abuse complicating pregnancy, first trimes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42.001A  Fracture of unspecified part of right clavicle, initial encounter for closed fra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C82-8BE5-4C28-9A92-AFD7BB6D7EC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664D-3E08-4DA5-81DA-D3B849418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4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4 digit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.5  Partial gastrectomy with anastomosis to 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.42  Suture of duodenal ulc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2CD-4306-4AEE-A74B-C0A26088DA0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970A-9670-4169-8231-F22426088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has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an be either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0 – 9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s O and I are not used to avoid confusion with numbers 0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B03ZX Excision of liver, percutaneous approach,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DQ10ZZ  Repair, upper esophagus, ope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E5D-2D25-4065-A76B-0EFD7B209A4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Codes –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,0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,8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,5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F0E-1FF4-41C2-9B54-F9EAB65BA1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/ICD-10 Code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equivalence mappings (G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aid in converting applications and systems from I-9 to I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927-53D4-4F78-859F-846A500F9E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January 16, 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-0013-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docket.access.gpo.gov/2009/pdf/E9-743.pd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, 2013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BDC-F881-4C26-A93B-30557502FE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2666880"/>
          <a:ext cx="6858000" cy="2209680"/>
        </p:xfrm>
        <a:graphic>
          <a:graphicData uri="http://schemas.openxmlformats.org/drawingml/2006/table">
            <a:tbl>
              <a:tblPr/>
              <a:tblGrid>
                <a:gridCol w="2466000"/>
                <a:gridCol w="2177640"/>
                <a:gridCol w="22143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6A1-0CC3-4652-A2DA-452319A291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llustrated use of GEMS by developing ICD-10 version of MS-D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with digestive MS-DRGs, Major Diagnostic Category (MDC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results at September 24, 2008 ICD-9-CM Coordination &amp; Maintenance Committe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omplete all MS-DRGS by October 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469-0BE6-4DC9-A9BD-44C52F30FF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394-FA28-4C71-ACCC-FE1FD09CAD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510-C838-4678-B960-930AC1C371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972-F5EB-44AB-8C20-158A5C07E6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Ms produce 95% of the MDC 6 mapping without any need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will need clinic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219320"/>
          <a:ext cx="6786720" cy="240192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D5A-EFF9-484F-819B-171D33F995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92.27 is associated with 261 PCS co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A72-9883-4777-8186-1CB28D0D20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90B-36BD-4DC2-9755-E3F8B3F3F7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467-9A76-49C2-A0BB-632EE94E38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discuss progress at future C&amp;M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6, 17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for C&amp;M at http://www.cms.hhs.gov/apps/events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ICD-10 Grouper by October 2009, post by the end of 2009 on ICD-10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Grouper logic subject to rule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A3B-F445-4C9F-986C-25D45D0A66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date October 1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date for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service for ambulatory &amp; physician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discharge for inpatient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des will not be accepted for services provided on or after October 1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laims for services prior to implementation date will continue to flow through systems fo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C00-0019-4AA2-9AF6-D9E1942CE1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EMs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yers found the detail da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streamlined Reimbursement Mapping (one to one best m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would assist in a more simple conversion of codes for reimbursemen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4FD-FE0F-45B8-9CCB-99F77913D7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ment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percent of the I-10 codes is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California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460-A3F5-4DB5-A84E-587D885474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Mapp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and Reimbursement mappings were designed to be used by all providers, payers, and data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tools to assist in conver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publicly available on the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tinue to update and maintain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969-DE35-44E6-B0E5-D3B5BFB5A5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d on CMS ICD-10 website http://www.cms.hhs.gov/ICD10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Diagnosis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cedure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Reimbursement map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Digestive System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version of ICD-10-CM and PCS codes and official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163-D5EA-47AD-8E90-1C5693AA93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worked collaboratively with AHA, AHIMA, and CDC (Cooperating Parties) on outreach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resources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93D9-BA8E-419E-9E44-15C83ED07B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ICD-10 Outreach calls prior to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calls posted at http://www.cms.hhs.gov/ICD10/07_Sponsored_Calls.asp#TopOf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s of each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used in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CFE-4003-43A6-BF67-851C808C40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dditional outreach efforts through collaboration with Cooperating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future educational outreach will be posted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, AHIMA, and others will also provide more detailed outreach and educatio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217-BB21-4C6B-9533-C1C9234D5E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&amp; Maintenance Committee will continue to discuss updates to ICD-9-CM, ICD-10-CM, &amp; 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updates on CMS &amp; CDC home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total codes changes with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89A-93C6-4433-A0F0-12E86C3271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name – ICD-10 Coordination &amp; Maintenance Committee upo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iscuss any need to freeze coding systems prior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genda item for September 16-17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ICD-10 and/or ICD-9-CM be frozen prior to implemen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the freeze beg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3D8-F764-4E5F-B1AE-BFF1C7FF48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vailable on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CD-10-CM and PCS systems inclu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quivalence Mappings (GEMs) between ICD-9-CM and ICD-10 (both w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guide for G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reviated Reimbursement Mapp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ICD-10 version of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6BD-973E-4C4B-ACE1-D4D4D28A4C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9T13:27:58Z</dcterms:created>
  <dc:creator>Pat Brooks</dc:creator>
  <dc:description/>
  <cp:keywords>ICD-10-PCS</cp:keywords>
  <dc:language>en-US</dc:language>
  <cp:lastModifiedBy>3M HIS rb</cp:lastModifiedBy>
  <cp:lastPrinted>1999-04-09T13:25:34Z</cp:lastPrinted>
  <dcterms:modified xsi:type="dcterms:W3CDTF">2009-03-06T19:42:24Z</dcterms:modified>
  <cp:revision>117</cp:revision>
  <dc:subject>CPRI presentation</dc:subject>
  <dc:title>ICD-10-P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